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6FF-2ADD-449F-AE34-277014A5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9AE-AC8F-49B8-A1DC-52B67A05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854-E5C5-4764-BD66-3F973A31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BCA-EAAC-41D0-99D1-81B15B13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718-FC09-4DA4-897A-97829B23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B0B-330C-4FFC-89EF-043BD762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149-F3A6-4912-B934-7E30BAA9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E75-F99E-4207-9570-F1CDF0CC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9CA-DAA1-41F5-9A80-E817FB1B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DFF-31EB-4AEA-8A55-DC497FE7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9D3-865A-4FC8-9414-6CEF8497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2EA-FC9E-4EE5-B4FB-E771E13E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7A76-3D29-44B8-B7BE-656EDFDC9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ulti-Step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8680" y="1712880"/>
            <a:ext cx="57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Equations by combining lik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555480"/>
            <a:ext cx="82296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51814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9920" y="331308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w can you clear an equation of fra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144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50496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1249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21337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21337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438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9600" y="2438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5842080"/>
            <a:ext cx="37638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1244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96080" y="243828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572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the Distributive Property to Solv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891540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117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05120"/>
            <a:ext cx="6094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19051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763120" cy="120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200400" cy="839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844800" y="1523880"/>
            <a:ext cx="5070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966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0920" y="16765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16765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8:16:26Z</dcterms:created>
  <dc:creator>Susannah Graham</dc:creator>
  <dc:description/>
  <dc:language>en-US</dc:language>
  <cp:lastModifiedBy>BRSD</cp:lastModifiedBy>
  <dcterms:modified xsi:type="dcterms:W3CDTF">2009-11-03T13:04:12Z</dcterms:modified>
  <cp:revision>5</cp:revision>
  <dc:subject/>
  <dc:title>Lesson 2.3 Solving Multi-Step Equations</dc:title>
</cp:coreProperties>
</file>